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98F9B-2C3F-4F75-AA1F-DC8E3B5FA6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09CA9-D008-4B2B-B8A3-E35F3C9935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A468C-AEDA-4D3E-AA9F-C589EC862D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32916-EB26-49FB-BC72-D5A566B511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B055C-7455-443C-8674-F9B2675179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B0580-6815-4BCD-9625-4F1BA9D8BA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8B92B-9DDA-4B19-A4FB-D0A0A6F502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E4EAD-AAFA-46E0-A3FC-51216289D7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20F1A-19FC-4900-B740-8970A37795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34661-D8F1-4FC7-B288-6133198442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90119-7383-49CF-B168-5B9C950EB9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A8E39-4330-4956-9E10-C8FCBA7F0F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23F0B-A5E9-4CA9-AE23-7AA656A359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108FF-57BC-43EB-86C8-B8528E7764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68C5-D1BE-4FA7-B0AD-499AE68369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2A3-CD36-411A-82E8-9FBAD104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C48-F67C-466D-9423-12CBCE8F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D73-11FD-41DC-BEA1-410C1102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CAE-3FD5-4FD8-836C-9C3215A1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C6A-C781-4DA4-9D3A-5F31504D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7DA-0E70-4D59-864C-643BAC7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D7F-32B2-4A16-9BA8-D46571B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C5E-2F48-4296-9EF4-2D6AE1BB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827-0642-4560-9DFC-6C3BE04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942-6562-417A-AA1E-B65F5CA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705-7489-4785-A3B0-C99B9C1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442-4F1E-48ED-BE06-F2039FC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B97E92-BAAE-499A-B032-3849CD5C3E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anonewsnet.ru/" TargetMode="External"/><Relationship Id="rId2" Type="http://schemas.openxmlformats.org/officeDocument/2006/relationships/hyperlink" Target="http://www/rovenki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179280" y="1440000"/>
            <a:ext cx="89996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О чудный новый мир нанотехнологи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60720" y="5940360"/>
            <a:ext cx="64818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и ученики 8 «а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школы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 К.С., Болотников С.Н., Климова Е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00720" y="306072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19640" y="341964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00360" y="415296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559640" y="-900000"/>
            <a:ext cx="72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60720" y="3419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700360" y="341964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1800360" y="2700360"/>
            <a:ext cx="41400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УДУЩЕЕ НАНОТЕХНОЛОГИ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71636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нотехнологии дадут человеку физическое бессмер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о таблеток, с помощью которых можно будет излечить тяжелые заболевания всего за несколько ча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протезов, не отвергаемых живой тка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мельчайших роботов-агентов, способных проникать в организм человека, выявлять и лечить различные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5040360" y="1619280"/>
            <a:ext cx="4500360" cy="3600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219640" y="5462640"/>
            <a:ext cx="4819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ноботы во рту занимают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здоровление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ловеческого з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115640"/>
            <a:ext cx="471672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«космического лифта», способного перемещать в космос различные предметы, затрачивая минимум энергии и материальных сред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явление роботов, которые смогут создавать любые предметы из атомов и молекул и послужат во благо человече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зводство экологически безопасных автомоби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5219640" y="1079640"/>
            <a:ext cx="4140360" cy="360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400720" y="5219640"/>
            <a:ext cx="455616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мический лифт, т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го сплетены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нотр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мышл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ение безотходного производства, не засоряющего окружающую сре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о самоочищающейся, нагревающейся и сверхпрочной  тка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073480" y="17002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6119640" y="5219640"/>
            <a:ext cx="3686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ья смогут меня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у и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ецировать како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одно изобра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нализ и оценка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убедились в том, что развитие нанотехнологий действительно улучшит наше будущее. Мы сможем лечить тяжелые заболевания всего за несколько минут, с легкостью перемещать тяжелые грузы на далекие расстояния, создавыать микророботов, которые послужат во благо человечеству. И мы согласны с тем, что необходимо делать все для развития нанотехнологий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: журналы «Наука и техник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– ресурсы: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anonewsnet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/rovenki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http://images.yandex.ru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и и задачи нашего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280" y="19796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на чем основана наука нанотехноло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овать результаты развития нанотехнологии на сегодняшни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лянуть в будущее: какие прогнозы ставят ученые и каков этот новый мир нано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предполагаем, что развитие нанотехнологий уже в недалеком будущем приведет к сенсационным открытиям в области науки, техники, медицины, промышленности и других сферах человеческой деятельности и во многом улучшит условия нашей жизни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419640" y="1260360"/>
            <a:ext cx="26953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очерпнули много информации о нанотехнологиях из интернета и литера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ли интервью у преподавателей Технического и Медицинского университ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ли высказывания ученых и представителей сфер промышленности, медицины и электро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ели современные научные газеты и журн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ходе исследования мы ответили на следующи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изучает наука нанотехнолог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же дало развитие нанотехнологий на сегодняшн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о будущее нанотехнолог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лектро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нерг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изучает наука нанотехн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нотехн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область прикладной науки, занимающаяся производством материалов и изделий сверхмалых размеров и изучающая свойства различных веществ на атомарном и молекулярно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049720" y="3589200"/>
            <a:ext cx="17906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360360" y="7207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5940360" y="5219640"/>
            <a:ext cx="3357720" cy="2340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уже дало развитие нанотехнологий на сегодняшний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941480"/>
            <a:ext cx="90709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н порта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атор крови,                                                                       который выполняет                                                                  полный анализ крови всего за 2 мин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отрубка – молекул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миллиона ато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рода, представля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й трубку диам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нанометра и дли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колько микрон.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39640" y="126036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5759280" y="4319640"/>
            <a:ext cx="3959280" cy="2700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503280" y="306360"/>
            <a:ext cx="9070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79280" y="1440000"/>
            <a:ext cx="4140360" cy="395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375080" y="1015920"/>
            <a:ext cx="10023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ые-нанотехнол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ли &lt;руку робота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молекулы ДН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икрепили ее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мерной кристалличе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К-матр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нению исследоват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ткрытие - пер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ьезный шаг к разви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оробототех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8720" y="132840"/>
            <a:ext cx="4211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ученых из политехнического института Ренсселира, США, предлагает использовать композиты на основе углеродных нанотрубок при создании искусственной мышечной ткан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8920" y="1680840"/>
            <a:ext cx="471492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стижения в области наноматериалов, нанотехнологий позволяют существенно уменьшить вес и габариты ракетоносителей и той полезной нагрузки, которая будет выводиться в косм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5040360" y="250920"/>
            <a:ext cx="3600360" cy="334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360360" y="3959280"/>
            <a:ext cx="4140360" cy="2519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3:00:10Z</dcterms:created>
  <dc:creator/>
  <dc:description/>
  <dc:language>en-US</dc:language>
  <cp:lastModifiedBy>Nabster</cp:lastModifiedBy>
  <dcterms:modified xsi:type="dcterms:W3CDTF">2010-06-03T18:55:52Z</dcterms:modified>
  <cp:revision>8</cp:revision>
  <dc:subject/>
  <dc:title>Слайд 1</dc:title>
</cp:coreProperties>
</file>